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A91-A30E-4430-A4E4-58B9FEB5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204-1A4A-4016-AFFA-C9013D5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2C6-2534-4574-B7A6-12CAFFF9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762-547E-4CC0-93CB-FD57097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7F9-1662-425B-8AD2-8C1CF5A1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707-4D02-4F36-BC35-76ABB878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AA1-02E3-4BB5-B5A3-F7C8351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438-B670-4F11-AD9D-46A0FE2B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EC2-1242-4E6B-85A5-753B884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1B0-B5A1-4233-84C4-78A7E2B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376-C14C-49E2-8C7D-C172600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525-F8BA-4305-BBD5-A214152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04A-7C7F-4DE8-A8D0-A074A2F5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Can It 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8458200" y="3604320"/>
            <a:ext cx="61722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e 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e eggs were biotin start from the store and at room tempertcher when I test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d 95 p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23.75 ponds per eg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m </a:t>
            </a:r>
            <a:r>
              <a:rPr b="0" lang="en-US" sz="4400" spc="-1" strike="noStrike">
                <a:solidFill>
                  <a:srgbClr val="000000"/>
                </a:solidFill>
                <a:latin typeface="ヒラギノ角ゴ Pro W3"/>
              </a:rPr>
              <a:t>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rm were rased on my farm and at room teperet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rm eggs held 85 p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21.25 ponds per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e eggs held 10 ponds more than the farm eggs did. I was hoping that the farm eggs would hold more than the store eggs did. If that would have happened then I could prove that the farm eggs are better for you than the store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2:19Z</dcterms:created>
  <dc:creator>STERLING  USD376</dc:creator>
  <dc:description/>
  <dc:language>en-US</dc:language>
  <cp:lastModifiedBy>USD376</cp:lastModifiedBy>
  <dcterms:modified xsi:type="dcterms:W3CDTF">2010-03-01T19:55:46Z</dcterms:modified>
  <cp:revision>2</cp:revision>
  <dc:subject/>
  <dc:title>How Much Can It Hold</dc:title>
</cp:coreProperties>
</file>